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541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43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8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D1373-6296-4950-A9A6-936F8B9B2301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3DF-72AF-47BE-9B70-43937DA3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54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56D-6387-4144-925F-61BF508A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992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31A-D301-4337-ABFA-873F85D1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992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9920"/>
            <a:ext cx="2496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08B-5203-467F-A690-BDE11C8E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4CB-6744-4808-A343-4C492E1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FE3-A8BC-4BF9-998B-F1D23AC6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AEE-280F-47B4-98DD-A080E643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676-7765-40A6-B5CC-823AE369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5476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8F8-F7D1-4753-85F8-0C7C04C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3F2-A5BC-4A3D-953E-6350BF6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992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EBF-D626-4DF8-8800-67FAA46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54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D4C-EC3B-440B-991A-9F92642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6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6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64F73-97FF-4CCB-8197-2FB7265874B9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914400"/>
            <a:ext cx="7758000" cy="1514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истема здравоохранения Израиля 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038480"/>
            <a:ext cx="77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Т.Х.Tульчински, Док.МН, Магистр общ. Здоровья, Браун Скул Общественного здоровь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Еврейский Университет -Хадасс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Иерусал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25 мая 2009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9C7-D0D8-4F9A-9D04-1BC7CFDBC0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43000"/>
            <a:ext cx="8686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ая мед.помощь в системе здравоохр. Израил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pot halav (Лечебные учреждения матери и ребенка)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Акцент на амбулаторн. обслуживание в больницах и в клиниках перв. мед помощи фондов мед. страх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нистерство борется за здоровый образ жизни населения – напр. законопро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Фонды мед. страхования активно участвуют в пропаганде здоров. образа жизни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обязаны иметь степень Магистра – существует 5 программ для подготовки Магист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Высокая степень доверия гражд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истема охраны психического здоровья -  ориентировка на населенные пун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пециализированная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омощь в районных больниц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Высокоспециализир.медпомощь в больницах Министерства и неправит. больниц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EC5-0C53-4235-B9CC-F88739FDD9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5160"/>
            <a:ext cx="7570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4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На создание нац.прогр. обществ. страх. ушло 20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пор на первичную медпомощ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алое обеспечение больниц и продолжит. пребывания в больнице (средн.продолж. преб. в больнице)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Расходы прибл. 8% ВВ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о продолж. жизни страна в числе миров. лидеров (муж. &gt;женщины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бщая смертность сокращ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нижен. случ. смертей от инсульта, сердечно-сосудистых, травматизм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естное сотрудничество с европейск. странами (и властьями Палест. автон.)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Расширен. программы вакцинации насел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1840" indent="-321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овершенствование характера питания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FB5-BFAD-4853-B310-01D938DD9F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576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52680" y="4114800"/>
            <a:ext cx="1143000" cy="457200"/>
          </a:xfrm>
          <a:prstGeom prst="wedgeRoundRectCallout">
            <a:avLst>
              <a:gd name="adj1" fmla="val -33333"/>
              <a:gd name="adj2" fmla="val -119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2895480"/>
            <a:ext cx="1143000" cy="381240"/>
          </a:xfrm>
          <a:prstGeom prst="wedgeRoundRectCallout">
            <a:avLst>
              <a:gd name="adj1" fmla="val -103194"/>
              <a:gd name="adj2" fmla="val -4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657600"/>
            <a:ext cx="1218960" cy="457200"/>
          </a:xfrm>
          <a:prstGeom prst="wedgeRoundRectCallout">
            <a:avLst>
              <a:gd name="adj1" fmla="val -115625"/>
              <a:gd name="adj2" fmla="val 3333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1143000"/>
            <a:ext cx="914400" cy="380880"/>
          </a:xfrm>
          <a:prstGeom prst="wedgeRoundRectCallout">
            <a:avLst>
              <a:gd name="adj1" fmla="val -81078"/>
              <a:gd name="adj2" fmla="val -999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685800"/>
            <a:ext cx="2895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расх.на медобсл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больница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EA2-1043-44FF-B765-1FFC41FA41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7740720" cy="558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77120" y="533520"/>
            <a:ext cx="2438280" cy="136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Вс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ход. на медобслуж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% ВВ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733920"/>
            <a:ext cx="1067040" cy="380880"/>
          </a:xfrm>
          <a:prstGeom prst="wedgeRoundRectCallout">
            <a:avLst>
              <a:gd name="adj1" fmla="val -91370"/>
              <a:gd name="adj2" fmla="val -250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4648320"/>
            <a:ext cx="914400" cy="380880"/>
          </a:xfrm>
          <a:prstGeom prst="wedgeRoundRectCallout">
            <a:avLst>
              <a:gd name="adj1" fmla="val -132467"/>
              <a:gd name="adj2" fmla="val -20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5181480"/>
            <a:ext cx="2361960" cy="571680"/>
          </a:xfrm>
          <a:prstGeom prst="wedgeRoundRectCallout">
            <a:avLst>
              <a:gd name="adj1" fmla="val -76680"/>
              <a:gd name="adj2" fmla="val -600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спулики центр. Аз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2519280"/>
            <a:ext cx="1389240" cy="376200"/>
          </a:xfrm>
          <a:prstGeom prst="wedgeRoundRectCallout">
            <a:avLst>
              <a:gd name="adj1" fmla="val -77314"/>
              <a:gd name="adj2" fmla="val 1877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447920"/>
            <a:ext cx="1284120" cy="361800"/>
          </a:xfrm>
          <a:prstGeom prst="wedgeRoundRectCallout">
            <a:avLst>
              <a:gd name="adj1" fmla="val -64314"/>
              <a:gd name="adj2" fmla="val -40921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F62-9B8B-4A15-8707-D867268EAE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0720" y="728640"/>
            <a:ext cx="7767720" cy="539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81480" y="1981080"/>
            <a:ext cx="914400" cy="381240"/>
          </a:xfrm>
          <a:prstGeom prst="wedgeRoundRectCallout">
            <a:avLst>
              <a:gd name="adj1" fmla="val -105208"/>
              <a:gd name="adj2" fmla="val 462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0" y="5040360"/>
            <a:ext cx="1260720" cy="369720"/>
          </a:xfrm>
          <a:prstGeom prst="wedgeRoundRectCallout">
            <a:avLst>
              <a:gd name="adj1" fmla="val -16754"/>
              <a:gd name="adj2" fmla="val 10140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2971800"/>
            <a:ext cx="1371600" cy="762120"/>
          </a:xfrm>
          <a:prstGeom prst="wedgeRoundRectCallout">
            <a:avLst>
              <a:gd name="adj1" fmla="val -84490"/>
              <a:gd name="adj2" fmla="val 156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спулики центр. Аз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1067040" cy="381240"/>
          </a:xfrm>
          <a:prstGeom prst="wedgeRoundRectCallout">
            <a:avLst>
              <a:gd name="adj1" fmla="val -107291"/>
              <a:gd name="adj2" fmla="val 6499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4680000"/>
            <a:ext cx="1260360" cy="349200"/>
          </a:xfrm>
          <a:prstGeom prst="wedgeRoundRectCallout">
            <a:avLst>
              <a:gd name="adj1" fmla="val -94754"/>
              <a:gd name="adj2" fmla="val -695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60360"/>
            <a:ext cx="1819080" cy="154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изк. 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йком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душу нас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77E-C7B9-4B3D-9F53-490EA8E17B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44360" y="720720"/>
            <a:ext cx="914400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95480" y="2057400"/>
            <a:ext cx="1235160" cy="507960"/>
          </a:xfrm>
          <a:prstGeom prst="wedgeRoundRectCallout">
            <a:avLst>
              <a:gd name="adj1" fmla="val 36240"/>
              <a:gd name="adj2" fmla="val 7157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038480"/>
            <a:ext cx="1143000" cy="381240"/>
          </a:xfrm>
          <a:prstGeom prst="wedgeRoundRectCallout">
            <a:avLst>
              <a:gd name="adj1" fmla="val -123750"/>
              <a:gd name="adj2" fmla="val -1162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724280"/>
            <a:ext cx="2057400" cy="457200"/>
          </a:xfrm>
          <a:prstGeom prst="wedgeRoundRectCallout">
            <a:avLst>
              <a:gd name="adj1" fmla="val -83875"/>
              <a:gd name="adj2" fmla="val -1701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сп.центр. Аз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5334120"/>
            <a:ext cx="914400" cy="380880"/>
          </a:xfrm>
          <a:prstGeom prst="wedgeRoundRectCallout">
            <a:avLst>
              <a:gd name="adj1" fmla="val -150870"/>
              <a:gd name="adj2" fmla="val -487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Н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0000" y="3060720"/>
            <a:ext cx="1339920" cy="293760"/>
          </a:xfrm>
          <a:prstGeom prst="wedgeRoundRectCallout">
            <a:avLst>
              <a:gd name="adj1" fmla="val -67777"/>
              <a:gd name="adj2" fmla="val -163879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0360" y="539640"/>
            <a:ext cx="1998720" cy="136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стабиль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ышен. продол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изни насе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3F6-9D0F-4B11-820D-F30341CC2DE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767360" cy="5580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9920" y="3886200"/>
            <a:ext cx="1143000" cy="380880"/>
          </a:xfrm>
          <a:prstGeom prst="wedgeRoundRectCallout">
            <a:avLst>
              <a:gd name="adj1" fmla="val -104027"/>
              <a:gd name="adj2" fmla="val -71666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495680"/>
            <a:ext cx="1260360" cy="360360"/>
          </a:xfrm>
          <a:prstGeom prst="wedgeRoundRectCallout">
            <a:avLst>
              <a:gd name="adj1" fmla="val -84703"/>
              <a:gd name="adj2" fmla="val 58787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5334120"/>
            <a:ext cx="1143000" cy="380880"/>
          </a:xfrm>
          <a:prstGeom prst="wedgeRoundRectCallout">
            <a:avLst>
              <a:gd name="adj1" fmla="val -101944"/>
              <a:gd name="adj2" fmla="val -837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1600200"/>
            <a:ext cx="1143000" cy="380880"/>
          </a:xfrm>
          <a:prstGeom prst="wedgeRoundRectCallout">
            <a:avLst>
              <a:gd name="adj1" fmla="val -89305"/>
              <a:gd name="adj2" fmla="val 24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514600"/>
            <a:ext cx="2133360" cy="380880"/>
          </a:xfrm>
          <a:prstGeom prst="wedgeRoundRectCallout">
            <a:avLst>
              <a:gd name="adj1" fmla="val -72023"/>
              <a:gd name="adj2" fmla="val 470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 Asian Re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0360" y="539640"/>
            <a:ext cx="1998720" cy="136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стабиль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кращ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мертн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B2A-A15D-49D2-B317-FAAD7A3D7A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0720" y="719280"/>
            <a:ext cx="7767720" cy="540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3962520"/>
            <a:ext cx="1143000" cy="380880"/>
          </a:xfrm>
          <a:prstGeom prst="wedgeRoundRectCallout">
            <a:avLst>
              <a:gd name="adj1" fmla="val -106111"/>
              <a:gd name="adj2" fmla="val -4166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800600"/>
            <a:ext cx="1324080" cy="380880"/>
          </a:xfrm>
          <a:prstGeom prst="wedgeRoundRectCallout">
            <a:avLst>
              <a:gd name="adj1" fmla="val -112754"/>
              <a:gd name="adj2" fmla="val 4578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334120"/>
            <a:ext cx="1143000" cy="380880"/>
          </a:xfrm>
          <a:prstGeom prst="wedgeRoundRectCallout">
            <a:avLst>
              <a:gd name="adj1" fmla="val -43055"/>
              <a:gd name="adj2" fmla="val -101666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1752480"/>
            <a:ext cx="1143000" cy="381240"/>
          </a:xfrm>
          <a:prstGeom prst="wedgeRoundRectCallout">
            <a:avLst>
              <a:gd name="adj1" fmla="val -93888"/>
              <a:gd name="adj2" fmla="val 4125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2340000"/>
            <a:ext cx="2340000" cy="360360"/>
          </a:xfrm>
          <a:prstGeom prst="wedgeRoundRectCallout">
            <a:avLst>
              <a:gd name="adj1" fmla="val -68532"/>
              <a:gd name="adj2" fmla="val -53194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спубл.центр. Аз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0"/>
            <a:ext cx="2340000" cy="216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стабиль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кращ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мертности о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шеми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езни седц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3E9-20CD-4BF5-86F5-56BEDE2D2AE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0720" y="719280"/>
            <a:ext cx="7767720" cy="5400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5867280" y="2340000"/>
            <a:ext cx="1513080" cy="403200"/>
          </a:xfrm>
          <a:prstGeom prst="wedgeRoundRectCallout">
            <a:avLst>
              <a:gd name="adj1" fmla="val -70365"/>
              <a:gd name="adj2" fmla="val 125555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809880"/>
            <a:ext cx="1143000" cy="381240"/>
          </a:xfrm>
          <a:prstGeom prst="wedgeRoundRectCallout">
            <a:avLst>
              <a:gd name="adj1" fmla="val -106805"/>
              <a:gd name="adj2" fmla="val -59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419720"/>
            <a:ext cx="1143000" cy="380880"/>
          </a:xfrm>
          <a:prstGeom prst="wedgeRoundRectCallout">
            <a:avLst>
              <a:gd name="adj1" fmla="val -119722"/>
              <a:gd name="adj2" fmla="val -525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2057400" cy="380880"/>
          </a:xfrm>
          <a:prstGeom prst="wedgeRoundRectCallout">
            <a:avLst>
              <a:gd name="adj1" fmla="val -56865"/>
              <a:gd name="adj2" fmla="val -160416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сп.центр.Аз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752480"/>
            <a:ext cx="1143000" cy="381240"/>
          </a:xfrm>
          <a:prstGeom prst="wedgeRoundRectCallout">
            <a:avLst>
              <a:gd name="adj1" fmla="val -73750"/>
              <a:gd name="adj2" fmla="val -375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57200"/>
            <a:ext cx="18288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выс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реблен.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щу фрукт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вощ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3FE-3C21-440B-B1C7-F946CEC638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6772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15000" y="4495680"/>
            <a:ext cx="1143000" cy="381240"/>
          </a:xfrm>
          <a:prstGeom prst="wedgeRoundRectCallout">
            <a:avLst>
              <a:gd name="adj1" fmla="val -142638"/>
              <a:gd name="adj2" fmla="val 958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819520"/>
            <a:ext cx="1621080" cy="473040"/>
          </a:xfrm>
          <a:prstGeom prst="wedgeRoundRectCallout">
            <a:avLst>
              <a:gd name="adj1" fmla="val -89055"/>
              <a:gd name="adj2" fmla="val 13097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ывш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3733920"/>
            <a:ext cx="1143000" cy="380880"/>
          </a:xfrm>
          <a:prstGeom prst="wedgeRoundRectCallout">
            <a:avLst>
              <a:gd name="adj1" fmla="val -101388"/>
              <a:gd name="adj2" fmla="val -15000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.Е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539640"/>
            <a:ext cx="2144520" cy="1440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раиль: стабиль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кращ. чис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ящи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324480"/>
            <a:ext cx="5410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вр.регион ВОЗ; База данн. Здоровье для всех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BB7-13B6-4F44-AF3B-7F4855EAAB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191120" cy="6400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343400" cy="3792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4724280"/>
            <a:ext cx="388620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0г.- 4.7 м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г.- 7.4 м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6% Евреи, 21% Арабы, 3% проч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191120"/>
            <a:ext cx="31244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сударство основано в 1948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CDB-2D1A-47F9-9636-B3C909102ED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зультаты достиж. в обл. укрепл. здоровь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сеобщее мед.страхование и доступность леч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рогий контроль за больницами со сторон. министер.здравоохра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репк.традиции обществ. здравоохр. и перв. мед. помощи (пмп)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онтроль за инфекц.болезнями – управляемыми инфекциями, туберкулезом,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онтроль за неинфекц.болезнями: сердечно-сосудистыми, болезнями нарушения мозгового кровообра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Надежная медико-фармацевтическая промышлен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Развита базисная, клиническая и эпидемиологическая нау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Хорош. подгот.спец-ов общ. здоровья и научно-исслед рабо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Гигиена питания, напр. потребл. фруктов, овощ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Укреплен. здоровья населен., напр. законы, запрещ. ку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3F2-B3C6-49B0-ACBB-418BFAF75D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1536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ы: Характрерные для индустриально развитых стран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итание - диабет, излишн. вес и другие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вязанные с питанием состоя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стояния связанные с недостат. питательн. микроэлементо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тарение нации – забота о престарелы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енение конструктивной стратеги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спольз. достиж. в технол-ях, фармации и общест. здоровь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решен. вопросы, связ. с обогащением муки фолиевой кислото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циальное, этническое и местное неравноправ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дность - 20% насел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онтроль за затратами на здавоохране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стное сотрудничество и стандар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412-D73E-4BC1-B1A6-CC6DA2129D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4960"/>
            <a:ext cx="83822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Устойч. традиция использ. первичной медпомощи и профилактик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Веобщий доступ к медицинскому страховани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Фонды мед.страхования и стратегия по укреплен. здоровья насел., напр, колоноскопия, вакцинация против гриппа для все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Взятие на вооруж. лучшего мирового опыт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работы, обучение и обслужива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Региональное сотруднич. с Палестинской системой здравоохран., напр. вакцинация, направление на высокоспециализировн. медпомощ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Международ. сотруднич., подготовка специалистов, напр. Университет Общественного Здоровья Брау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Борьба за здоровое питание и здоровый образ жизн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Здоровый образ жизни как национальный приорите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69C-22B3-4DE6-939E-3DCB24C785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трудничество с Россией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Учебник по Общественному Здоровью – с 2000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Общ. Здоровья - Магистр Общ. Здоровья (40), ДМН (1)</a:t>
            </a:r>
            <a:r>
              <a:rPr b="1" lang="he-I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омощь в создании высш. школ Обществ. Здоровья – Тверь, Московск Медакадемия, Челябинс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Летние учебные заведения –  2001-2006г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Консультации в области проводимого кур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репараты-дженерик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Медицинские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техноло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Обучение врачей-клиницис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D8B-F83F-4A67-9FB8-31AFECF308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е: Современ. Общественное Здоровье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0360" y="899640"/>
            <a:ext cx="847872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ервич. мед. помощь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- стержень общ. здоровья населен., но не единств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лассические вопросы Общ.</a:t>
            </a:r>
            <a:r>
              <a:rPr b="1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Здоров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Хронические и инфекционные болезн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Роль первич. мед помощи в профилактике и лечении болез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Борьба за здоровый образ жизни – законодательство, обуч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Руководство системами здравоохран. - финансирование и поощрение, напр. соответств. субсидии на вакцинацию и т.д., непродолж. стационар. лечение, укреплен. Перв. Мед. помощи, отчет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Общ. Здоровья (МОЗ) явл. важн. условием для работников здравоохр., руководителей здравоохр., исследователей и практикующих врач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Задержка в реализации ид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Этические вопросы (беспристрастность, делать или не делать)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Лицом к лицу с новыми проблем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B6A-4878-4281-84C5-954043887C7A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440" y="304560"/>
            <a:ext cx="6994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инция Османской империи до 1917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пидемия малярии, кишечных инфекций, респираторных  и пр. инфек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боле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сокий процент младенческой и детской смерт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лаготворительные и миссионерские больницы в 19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CB9-FD69-44EE-A442-6FA5ADF72C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чало перемен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4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11г. -  организация медсестер Хадасса, роддо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олочные кухни: миссионерская организац. New York Henry St Mis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pot Halav (капля молок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Goutes de Lait)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12г. - организация фондов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мед.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зародилось в ценр.Европ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литическая принадлеж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17-1947гг. сфера полномочий Великобритан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колониольное законодатель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гражданская админист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общественное здоровь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630-C487-4BBF-9B96-9FF37E2F03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фера полномочий Великобритании  1917-1947гг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итанское колон.законодатель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фесс. специалисты общ.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а 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решение деятельности, зона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нконтроль на муниципальном уров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боратории общ.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цензионное закон-во о проф.деятельности - докторов, медсестер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цензирование медучрежд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-во о кач-ве продуктов питания и контро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оль за маляри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жегодные отчеты 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5C3-DED1-42D4-9D2D-DB8F88943F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7040" y="163440"/>
            <a:ext cx="7772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Молочные кухни Халав (Здрав.матери и ребенка)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3360"/>
            <a:ext cx="91440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ipot Halav, Израильское учреждение с 1912г. до наших д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2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Имеются в кажд. городе, деревне, населен. пункт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нистерство здравоохр., муниципальн. орган, фонды мед.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рахования (75%, 15%, 10%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естринский персонал и посещающие вра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ф мероприятия отдельно от леч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Наряду с амбулаториями первич. медпомощи фондов мед. страх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акцинация и охрана дет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Рост и развит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граммные пищевые добавки витаминов А и 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граммные пищевые добавки железа (с 4 до 12мес.)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онтроль за протеканием беремен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Некоторые медучреждения по охране здоровья пожилых люд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553-F09E-4B51-A7DB-15429E3A5C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6120" y="417240"/>
            <a:ext cx="7281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онд мед. страхован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бочее движение и полит. принадлеж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ключает всех работающи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хватывает иммигрантов и социальные знач. заболе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стигло 95% населения к 1960г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ействующие амбулатории перв.медпомощи в кажд. городе, деревне, населен. пункте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иобретенное стационарн.обслуживание у других организ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ользуется большим доверием у насел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Медориентац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510-7026-4DFC-AF51-3A92137B56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57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ц. прогр-ма мед. страхования, 199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26640"/>
            <a:ext cx="868680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Закон о гос. социальном страховании - в обязат. поряд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лата работодателя/работника в Институт нац. страх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сеобщий охват населения – 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 фонда мед. страхования – в завис. от выбора семьи, возможность поменять фон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андартный набор услуг, определенных в законе об обязат. соц. страхов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Ежегодное приведение в соответствие набора услу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аво отказа от одного и выбора другого фонда мед. страхования и докто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одушный налог (стандартизир. по возрасту) в Фонд мед.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Конкуренция между Фондами в целях повыш. качества. Без доплаты за оказание первич. мед. помощ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Сведение на нет полит. манипуля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Врачи общ. практики получают в завис. от кол. пациентов и роста до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440" indent="-325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Отсутствие региональн. административной структу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E05-EC95-47E5-A3CC-E839A047B7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24280" y="762120"/>
            <a:ext cx="1752840" cy="9144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инистерств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дравоох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981080"/>
            <a:ext cx="2590920" cy="10670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ститут нац. страх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581280"/>
            <a:ext cx="1218960" cy="6858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343400"/>
            <a:ext cx="1371600" cy="6858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3640" y="4006800"/>
            <a:ext cx="1346040" cy="6415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нд мед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724280"/>
            <a:ext cx="1218960" cy="6858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нд мед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352680"/>
            <a:ext cx="1676520" cy="8384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щест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581280"/>
            <a:ext cx="1828800" cy="8384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сихическо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82600" y="1676520"/>
            <a:ext cx="56844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60948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4343400"/>
            <a:ext cx="1752840" cy="838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сихиатрическ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льниц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502920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5867280"/>
            <a:ext cx="1295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58672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8672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5880"/>
            <a:ext cx="990720" cy="38124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лини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6019920"/>
            <a:ext cx="990720" cy="4572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кто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1600200" cy="38088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ботода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1523880" cy="53316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бот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3716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99072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1143000"/>
            <a:ext cx="1752480" cy="762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логопла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щ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459480" y="1125000"/>
            <a:ext cx="873360" cy="18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92400" y="2895480"/>
            <a:ext cx="18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124080"/>
            <a:ext cx="1067040" cy="914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 душ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4724280"/>
            <a:ext cx="1295280" cy="16765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стн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сокоспец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ьниц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5410080"/>
            <a:ext cx="1600200" cy="83844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мбулаторн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мощ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0"/>
            <a:ext cx="3048120" cy="990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раильская система здравоох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4921200"/>
            <a:ext cx="1981080" cy="94608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дравоохр. матер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ребе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pot Hala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91120"/>
            <a:ext cx="152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1676520"/>
            <a:ext cx="15228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057400"/>
            <a:ext cx="1676160" cy="8380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полнительн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делен. сред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82400" y="2895480"/>
            <a:ext cx="5684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EED-3BA5-4957-BA24-F5B3F06DAB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09-05-25T09:35:28Z</dcterms:modified>
  <cp:revision>5</cp:revision>
  <dc:subject/>
  <dc:title>Public Health and Health Status of the Population in Israel</dc:title>
</cp:coreProperties>
</file>